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531-D675-4884-BF61-9AD16C86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2AC-BC67-4A08-989D-E316AC82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C31-D4F5-4558-B344-A89C37E6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F0C2-F636-44DC-9E3D-590D95EF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0DF7-01A7-4A28-B35A-99A4B4F7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FBE7-6174-4D7E-96ED-2902D049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0CA3-F517-4FE0-B63D-A68F5C4B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A08B-08C2-4C66-BD66-0145AC0E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F7FB-F441-48BF-A00F-3345E237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070F-C660-4305-9A54-1B7ADE64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558B-CF6D-4D63-9675-880C4250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8B60-2076-4BFD-ADE3-BD4D87D6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A7CD-3F3C-493D-ADD8-53C28198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871C-FE51-40F9-A025-860B8CF0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EC64-3117-453C-AB57-B5280FD0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A6FE-3C4D-479F-BFA0-8792717C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80CC-9AAB-4EA3-A87C-B5EC8F0C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F4D-8053-4ACF-99F4-E4BEB202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4F7-7091-4B21-89F8-E25F5087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F7D7-F18C-4F21-A985-BFB277C5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FAF-65E2-48FD-A4A7-0AEBF07C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D25-7141-4950-9689-3BDF10DB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1D7-EB88-4448-8DB3-A9324960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57CD-DEB2-44FC-A7DE-B31CD1B1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C Futura Casu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CAC Futur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CAC Futura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C Futura Casu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C Futura Casu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2788-B8AF-46F7-BFA3-1A115F5903F6}" type="slidenum">
              <a:rPr b="0" lang="en-US" sz="1800" spc="-1" strike="noStrike">
                <a:solidFill>
                  <a:srgbClr val="000000"/>
                </a:solidFill>
                <a:latin typeface="CAC Futura Casu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C Futura Casual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C Futura Casu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C Futura Casu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C7A0-1AE4-4121-8690-EE3EC1F6EFE5}" type="slidenum">
              <a:rPr b="0" lang="en-US" sz="1400" spc="-1" strike="noStrike">
                <a:solidFill>
                  <a:srgbClr val="000000"/>
                </a:solidFill>
                <a:latin typeface="CAC Futura Casu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Me llamo ____________       Clase 6 NH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La fecha es el 21 de noviembre del 2011</a:t>
            </a:r>
            <a:endParaRPr b="0" lang="en-US" sz="32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AC Futura Casual"/>
              </a:rPr>
              <a:t>Propósito # 21: </a:t>
            </a:r>
            <a:r>
              <a:rPr b="0" lang="es-ES_tradnl" sz="3200" spc="-1" strike="noStrike">
                <a:solidFill>
                  <a:srgbClr val="000000"/>
                </a:solidFill>
                <a:latin typeface="CAC Futura Casual"/>
              </a:rPr>
              <a:t>¿Cuántos tipos de sustantivos hay?</a:t>
            </a:r>
            <a:endParaRPr b="0" lang="en-US" sz="3200" spc="-1" strike="noStrike">
              <a:solidFill>
                <a:srgbClr val="000000"/>
              </a:solidFill>
              <a:latin typeface="CAC Futura Casual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AC Futura Casual"/>
              </a:rPr>
              <a:t>Actividad Inicial: </a:t>
            </a:r>
            <a:r>
              <a:rPr b="0" lang="es-ES_tradnl" sz="3200" spc="-1" strike="noStrike">
                <a:solidFill>
                  <a:srgbClr val="000000"/>
                </a:solidFill>
                <a:latin typeface="CAC Futura Casual"/>
              </a:rPr>
              <a:t>Escribe el articulo indefinido correcto.</a:t>
            </a:r>
            <a:endParaRPr b="0" lang="en-US" sz="3200" spc="-1" strike="noStrike">
              <a:solidFill>
                <a:srgbClr val="000000"/>
              </a:solidFill>
              <a:latin typeface="CAC Futura Casual"/>
            </a:endParaRPr>
          </a:p>
          <a:p>
            <a:pPr marL="762120" indent="-762120">
              <a:spcBef>
                <a:spcPts val="799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C Futura Casual"/>
              </a:rPr>
              <a:t>_____ teclado</a:t>
            </a:r>
            <a:r>
              <a:rPr b="0" lang="es-ES_tradnl" sz="32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AC Futura Casual"/>
              </a:rPr>
              <a:t>6. ______ pagina</a:t>
            </a:r>
            <a:endParaRPr b="0" lang="en-US" sz="3200" spc="-1" strike="noStrike">
              <a:solidFill>
                <a:srgbClr val="000000"/>
              </a:solidFill>
              <a:latin typeface="CAC Futura Casual"/>
            </a:endParaRPr>
          </a:p>
          <a:p>
            <a:pPr marL="762120" indent="-762120">
              <a:spcBef>
                <a:spcPts val="799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C Futura Casual"/>
              </a:rPr>
              <a:t>_____ muchachas</a:t>
            </a:r>
            <a:r>
              <a:rPr b="0" lang="es-ES_tradnl" sz="32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AC Futura Casual"/>
              </a:rPr>
              <a:t>7. ______ impresores</a:t>
            </a:r>
            <a:endParaRPr b="0" lang="en-US" sz="3200" spc="-1" strike="noStrike">
              <a:solidFill>
                <a:srgbClr val="000000"/>
              </a:solidFill>
              <a:latin typeface="CAC Futura Casual"/>
            </a:endParaRPr>
          </a:p>
          <a:p>
            <a:pPr marL="762120" indent="-762120">
              <a:spcBef>
                <a:spcPts val="799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C Futura Casual"/>
              </a:rPr>
              <a:t>_____ condición</a:t>
            </a:r>
            <a:r>
              <a:rPr b="0" lang="es-ES_tradnl" sz="32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AC Futura Casual"/>
              </a:rPr>
              <a:t>8. ______ vestido</a:t>
            </a:r>
            <a:endParaRPr b="0" lang="en-US" sz="3200" spc="-1" strike="noStrike">
              <a:solidFill>
                <a:srgbClr val="000000"/>
              </a:solidFill>
              <a:latin typeface="CAC Futura Casual"/>
            </a:endParaRPr>
          </a:p>
          <a:p>
            <a:pPr marL="762120" indent="-762120">
              <a:spcBef>
                <a:spcPts val="799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C Futura Casual"/>
              </a:rPr>
              <a:t>_____ cordel</a:t>
            </a:r>
            <a:r>
              <a:rPr b="0" lang="es-ES_tradnl" sz="32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AC Futura Casual"/>
              </a:rPr>
              <a:t>9. ______ zapatillas</a:t>
            </a:r>
            <a:endParaRPr b="0" lang="en-US" sz="3200" spc="-1" strike="noStrike">
              <a:solidFill>
                <a:srgbClr val="000000"/>
              </a:solidFill>
              <a:latin typeface="CAC Futura Casual"/>
            </a:endParaRPr>
          </a:p>
          <a:p>
            <a:pPr marL="762120" indent="-762120">
              <a:spcBef>
                <a:spcPts val="799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C Futura Casual"/>
              </a:rPr>
              <a:t>_____ novedad</a:t>
            </a:r>
            <a:r>
              <a:rPr b="0" lang="es-ES_tradnl" sz="32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AC Futura Casual"/>
              </a:rPr>
              <a:t>10. _____ conejo</a:t>
            </a:r>
            <a:endParaRPr b="0" lang="en-US" sz="3200" spc="-1" strike="noStrike">
              <a:solidFill>
                <a:srgbClr val="000000"/>
              </a:solidFill>
              <a:latin typeface="CAC Futura Casual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C Futura Casual"/>
              </a:rPr>
              <a:t>El sustantivo</a:t>
            </a: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C Futur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C Futura Casual"/>
              </a:rPr>
              <a:t>El 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CAC Futura Casual"/>
              </a:rPr>
              <a:t>sustantivo</a:t>
            </a:r>
            <a:r>
              <a:rPr b="1" lang="es-ES_tradnl" sz="3600" spc="-1" strike="noStrike">
                <a:solidFill>
                  <a:srgbClr val="000000"/>
                </a:solidFill>
                <a:latin typeface="CAC Futura Casu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CAC Futura Casual"/>
              </a:rPr>
              <a:t>es la palabra que sirve para nombrar a las personas, animales, lugares o cosas.  Los sustantivos se dividen en </a:t>
            </a: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CAC Futura Casual"/>
              </a:rPr>
              <a:t>dos</a:t>
            </a:r>
            <a:r>
              <a:rPr b="0" lang="es-ES_tradnl" sz="3600" spc="-1" strike="noStrike">
                <a:solidFill>
                  <a:srgbClr val="000000"/>
                </a:solidFill>
                <a:latin typeface="CAC Futura Casual"/>
              </a:rPr>
              <a:t> partes: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C Futura Casual"/>
              </a:rPr>
              <a:t>Comunes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C Futura Casu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C Futura Casual"/>
              </a:rPr>
              <a:t>Propios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CAC Futura Casual"/>
              </a:rPr>
              <a:t>El sustantivo común</a:t>
            </a: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C Futur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El </a:t>
            </a:r>
            <a:r>
              <a:rPr b="1" lang="es-ES" sz="3600" spc="-1" strike="noStrike" u="sng">
                <a:solidFill>
                  <a:srgbClr val="000000"/>
                </a:solidFill>
                <a:uFillTx/>
                <a:latin typeface="CAC Futura Casual"/>
              </a:rPr>
              <a:t>sustantivo común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 sirve para nombrar a las personas, lugares, animales o cosas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C Futura Casual"/>
              </a:rPr>
              <a:t>EN GENERAL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00"/>
                </a:solidFill>
                <a:latin typeface="CAC Futura Casual"/>
              </a:rPr>
              <a:t>Ejemplos: </a:t>
            </a:r>
            <a:r>
              <a:rPr b="0" i="1" lang="es-ES" sz="3600" spc="-1" strike="noStrike">
                <a:solidFill>
                  <a:srgbClr val="000000"/>
                </a:solidFill>
                <a:latin typeface="CAC Futura Casu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mujer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señor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lápiz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ciudad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estatua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 perro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C Futura Casual"/>
              </a:rPr>
              <a:t>El sustantivo propio</a:t>
            </a: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C Futur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El </a:t>
            </a:r>
            <a:r>
              <a:rPr b="1" lang="es-ES" sz="3600" spc="-1" strike="noStrike" u="sng">
                <a:solidFill>
                  <a:srgbClr val="000000"/>
                </a:solidFill>
                <a:uFillTx/>
                <a:latin typeface="CAC Futura Casual"/>
              </a:rPr>
              <a:t>sustantivo 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propio sirve para nombrar a las personas, animales, lugares o cosas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C Futura Casual"/>
              </a:rPr>
              <a:t>EN ESPECIFICO.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00"/>
                </a:solidFill>
                <a:latin typeface="CAC Futura Casual"/>
              </a:rPr>
              <a:t>Ejemplos: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i="1" lang="es-ES" sz="36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María 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Sr. López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 Nueva York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La Estatua de la Libertad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 Fifí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C Futura Casu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C Futura Casual"/>
              </a:rPr>
              <a:t>Clasifica los sustantivos en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CAC Futura Casual"/>
              </a:rPr>
              <a:t>Propio</a:t>
            </a:r>
            <a:r>
              <a:rPr b="0" lang="es-ES_tradnl" sz="3200" spc="-1" strike="noStrike">
                <a:solidFill>
                  <a:srgbClr val="000000"/>
                </a:solidFill>
                <a:latin typeface="CAC Futura Casual"/>
              </a:rPr>
              <a:t> o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CAC Futura Casual"/>
              </a:rPr>
              <a:t>Común</a:t>
            </a:r>
            <a:endParaRPr b="0" lang="en-US" sz="3200" spc="-1" strike="noStrike">
              <a:solidFill>
                <a:srgbClr val="000000"/>
              </a:solidFill>
              <a:latin typeface="CAC Futura Casual"/>
            </a:endParaRPr>
          </a:p>
          <a:p>
            <a:pPr marL="762120" indent="-762120">
              <a:spcBef>
                <a:spcPts val="1001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Xilófono</a:t>
            </a: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__________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marL="762120" indent="-762120">
              <a:spcBef>
                <a:spcPts val="1001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Caballo</a:t>
            </a: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__________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marL="762120" indent="-762120">
              <a:spcBef>
                <a:spcPts val="1001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Tomas</a:t>
            </a: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__________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marL="762120" indent="-762120">
              <a:spcBef>
                <a:spcPts val="1001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Bolivia</a:t>
            </a: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__________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marL="762120" indent="-762120">
              <a:spcBef>
                <a:spcPts val="1001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San Juan</a:t>
            </a: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	</a:t>
            </a:r>
            <a:r>
              <a:rPr b="0" lang="es-ES_tradnl" sz="4000" spc="-1" strike="noStrike">
                <a:solidFill>
                  <a:srgbClr val="000000"/>
                </a:solidFill>
                <a:latin typeface="CAC Futura Casual"/>
              </a:rPr>
              <a:t>__________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03:28:56Z</dcterms:created>
  <dc:creator>Helen Zumaeta</dc:creator>
  <dc:description/>
  <dc:language>en-US</dc:language>
  <cp:lastModifiedBy>Helen Zumaeta</cp:lastModifiedBy>
  <dcterms:modified xsi:type="dcterms:W3CDTF">2011-11-21T03:52:48Z</dcterms:modified>
  <cp:revision>2</cp:revision>
  <dc:subject/>
  <dc:title>Me llamo ____________       Clase 6 NH La fecha es el 21 de noviembre del 2011</dc:title>
</cp:coreProperties>
</file>